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5E9-C2F4-41A4-A0D6-D596C643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1EB-074D-4597-BCA2-C8E344A3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578-2C41-449C-876D-8477B8AB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BFA-067F-4AA7-8120-710E214A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9518-6DF9-4388-9AB9-81EA47D5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EC42-8BEE-429D-B1CA-24C998BE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B855-1249-4451-BCAC-F934D41C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6EB3-2688-481E-8FA1-FEBD13A0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5197-5D43-4B1C-9729-A223CCBF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AFAC-46A5-43F4-A740-E39BED02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1763-3B48-410C-A2E8-BBB4ECEE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7A9-C94A-4A10-A053-1806F540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C780-F49C-4552-BB18-D4BA0590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8696-9578-4493-9922-3E3277AD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C3DB-85B4-4F4E-A9E3-387CE8C9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A521-268D-413F-97D7-1071C686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6EC6-D47E-4C40-9AE3-2CBCE563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215D-A1AA-4870-907B-7635127E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03C7-C2DF-462D-AAD8-87A07FCA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44A4-F547-4022-9355-BB218692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57CD-BF63-430B-8D4D-3E82A4D9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135D-5702-4520-874F-AD0CCC45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E6C-BD13-4F0D-812B-60EE6D44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17B4-6FB6-47A7-B242-10269FB5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BFB29-234E-4AA8-AD05-FBAB897A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59AE-960D-4140-BCF1-5F667D6A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9A60-B8C0-43F0-B471-3913F4C5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3599-FFC6-40A7-9698-D904D1A1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E4EB-40BD-4C9D-A4A3-12D8456A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243E-1846-4436-9E16-30354F71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6C899-374D-43A8-AA95-C4870C02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2C77-B2F5-4380-B4CC-300784C9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88659-DF13-4A00-9E57-B84A57EB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85B-072B-4D0D-B40E-7DEB23B2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8A00B-2388-444C-BB52-6E9935C6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B2B72-8765-4C63-80F9-B31C690D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7ED6-37E3-4A9C-9999-4E5D041F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6D1B4-E1E0-4039-BAD8-31118888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9BEE7-59EE-45C6-8B5A-5A2B031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41A5-D333-40E3-AD95-912D5EE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3F0C-263B-4CF4-8D96-47B78981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F239-E045-4F15-9F63-44E34CAB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72D59-3A4D-449A-89BD-ACD8394F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6A4C8-3DCF-4BA6-AB58-87247459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C0B-3006-4BA6-AE24-639563B8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989C3-5011-4586-B27B-3A18B0D9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D8C7D-84BA-42EC-8AE3-ACE1A6C8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56C71-2A3A-486D-8459-9605B411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ACFD7-E9C7-414C-B173-BA110128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B24E4-F45B-4A5A-B19D-CDE53277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7BA38-E55B-480C-9C49-76206100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1A453-AF14-4B98-8A73-F135141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C3180-4353-4DC3-937E-4DE35D0A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34CCF-CB57-4316-B85B-FE44C7DC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4FA5E-239E-41FF-9E25-A06BE73A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82F-D2B5-4903-86F8-E7F86112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07277-2550-4CBE-A6C4-B7DD6BF2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38026-D696-4E03-AC5E-054E56A9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30C33-366C-4066-B99C-5DCEDDA0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2F7C9-8779-4906-BFDB-9DD0C00A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D7B0D-8038-465E-8F02-27D36E1F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9A522-8ACC-4982-A131-B35545C3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83DA2-B980-40E8-AB43-EEF23208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74FCF-62EF-434B-A45A-95ACDBAD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76567-FFCF-49E0-84F2-11C2E75B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574B3-553B-4206-901B-0C400629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9D0-B17E-42AE-A87B-833B6536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E90FF-C24F-40B4-93DA-55C9F44E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239F5-D124-44F6-8483-D447B3C3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BD02C-4D4A-4F35-951E-F33AC164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BA104-8094-434D-90FC-6F461DD4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FA849-ABAC-42F7-9FC7-293A6A22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61D7D-B574-4E45-9A47-6DED05F1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F5B6A-200B-4376-9AE4-6F06B37E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91337-6387-4466-9661-E7B4A0E3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D7502-3B25-458C-9DB5-CCBC691C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5E8B6-487E-4650-8884-1C0D0880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021-91C4-4E84-9CFB-ADD1E890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546B1-0085-4E0E-AF25-C1406748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7826C-B04F-432A-BE00-341410BB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D99EB-A681-4193-82EB-324E06B1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F3C85-566D-4A72-B5DC-B7263466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3BE02-07F5-4D30-8C0B-337431B0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2FF-6DC5-4FB8-9399-3E81C860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B885-1FCC-4D72-AF20-5E029EEA18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601B-AB4E-47D7-9CAB-621031C5312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3793-83E7-4100-BEB1-FC67BD17A3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696F-3692-4BA4-A9EB-90FF5822818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7721-6F31-499F-96E8-E6BAF43B65A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FEEC-511E-42B0-9B8D-15F34DC355E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53EF-0BD4-475F-B7B6-2C249CCF7D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езентация на тему: «Способы решений задач и число решений задач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Работу выполнил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ученица 7Б класс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МОУ СОШ №1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Иванова Юли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1042920" y="333360"/>
            <a:ext cx="81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◦. Найдите один из других его углов. Ответ дайте в градус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Равнобедренный треугольник 15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936720" y="4221000"/>
            <a:ext cx="81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C =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х,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, а эт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оставим и решим уравне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900000" y="3645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176364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298764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1"/>
          <p:cNvSpPr/>
          <p:nvPr/>
        </p:nvSpPr>
        <p:spPr>
          <a:xfrm flipH="1">
            <a:off x="1115640" y="4508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5"/>
          <p:cNvSpPr/>
          <p:nvPr/>
        </p:nvSpPr>
        <p:spPr>
          <a:xfrm flipH="1">
            <a:off x="176328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1763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>
            <a:off x="284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9"/>
          <p:cNvSpPr/>
          <p:nvPr/>
        </p:nvSpPr>
        <p:spPr>
          <a:xfrm>
            <a:off x="1763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30"/>
          <p:cNvSpPr/>
          <p:nvPr/>
        </p:nvSpPr>
        <p:spPr>
          <a:xfrm flipH="1">
            <a:off x="284292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31"/>
          <p:cNvSpPr/>
          <p:nvPr/>
        </p:nvSpPr>
        <p:spPr>
          <a:xfrm flipH="1">
            <a:off x="176328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2"/>
          <p:cNvSpPr/>
          <p:nvPr/>
        </p:nvSpPr>
        <p:spPr>
          <a:xfrm flipH="1">
            <a:off x="1115640" y="515772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34"/>
          <p:cNvSpPr/>
          <p:nvPr/>
        </p:nvSpPr>
        <p:spPr>
          <a:xfrm flipH="1">
            <a:off x="2411280" y="515772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ая соединительная линия 36"/>
          <p:cNvSpPr/>
          <p:nvPr/>
        </p:nvSpPr>
        <p:spPr>
          <a:xfrm>
            <a:off x="241128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38"/>
          <p:cNvSpPr/>
          <p:nvPr/>
        </p:nvSpPr>
        <p:spPr>
          <a:xfrm>
            <a:off x="1547640" y="2565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42"/>
          <p:cNvSpPr/>
          <p:nvPr/>
        </p:nvSpPr>
        <p:spPr>
          <a:xfrm flipV="1">
            <a:off x="2484360" y="2637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42920" y="0"/>
            <a:ext cx="8101080" cy="82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)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твет: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решая задачу различными способами, мы получаем один и тот же от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2"/>
          <p:cNvSpPr/>
          <p:nvPr/>
        </p:nvSpPr>
        <p:spPr>
          <a:xfrm flipH="1">
            <a:off x="1187280" y="2205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3"/>
          <p:cNvSpPr/>
          <p:nvPr/>
        </p:nvSpPr>
        <p:spPr>
          <a:xfrm flipH="1">
            <a:off x="183492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ая соединительная линия 4"/>
          <p:cNvSpPr/>
          <p:nvPr/>
        </p:nvSpPr>
        <p:spPr>
          <a:xfrm>
            <a:off x="1187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>
            <a:off x="183528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6"/>
          <p:cNvSpPr/>
          <p:nvPr/>
        </p:nvSpPr>
        <p:spPr>
          <a:xfrm>
            <a:off x="1835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111600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1834920" y="364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>
            <a:off x="1115640" y="3645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42920" y="0"/>
            <a:ext cx="81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Найдите углы этого треугольн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Равнобедренный треугольник 3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97164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835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3059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4140360" y="1484280"/>
            <a:ext cx="410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,      C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13"/>
          <p:cNvSpPr/>
          <p:nvPr/>
        </p:nvSpPr>
        <p:spPr>
          <a:xfrm flipH="1">
            <a:off x="6011640" y="17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14"/>
          <p:cNvSpPr/>
          <p:nvPr/>
        </p:nvSpPr>
        <p:spPr>
          <a:xfrm>
            <a:off x="6012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6"/>
          <p:cNvSpPr/>
          <p:nvPr/>
        </p:nvSpPr>
        <p:spPr>
          <a:xfrm>
            <a:off x="5724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514836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 flipH="1">
            <a:off x="5724000" y="2060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9"/>
          <p:cNvSpPr/>
          <p:nvPr/>
        </p:nvSpPr>
        <p:spPr>
          <a:xfrm flipH="1">
            <a:off x="5148000" y="2060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21"/>
          <p:cNvSpPr/>
          <p:nvPr/>
        </p:nvSpPr>
        <p:spPr>
          <a:xfrm>
            <a:off x="154764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V="1">
            <a:off x="2340000" y="263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183528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1116000" y="3933720"/>
            <a:ext cx="8028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   C = (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 -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2 =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вет: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3708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7"/>
          <p:cNvSpPr/>
          <p:nvPr/>
        </p:nvSpPr>
        <p:spPr>
          <a:xfrm flipH="1">
            <a:off x="442728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8"/>
          <p:cNvSpPr/>
          <p:nvPr/>
        </p:nvSpPr>
        <p:spPr>
          <a:xfrm>
            <a:off x="442764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H="1">
            <a:off x="133164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31"/>
          <p:cNvSpPr/>
          <p:nvPr/>
        </p:nvSpPr>
        <p:spPr>
          <a:xfrm flipH="1">
            <a:off x="197928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133200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Равнобедренный треугольник 2"/>
          <p:cNvSpPr/>
          <p:nvPr/>
        </p:nvSpPr>
        <p:spPr>
          <a:xfrm>
            <a:off x="1332000" y="260280"/>
            <a:ext cx="172728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3"/>
          <p:cNvSpPr/>
          <p:nvPr/>
        </p:nvSpPr>
        <p:spPr>
          <a:xfrm>
            <a:off x="1692360" y="1125360"/>
            <a:ext cx="215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4"/>
          <p:cNvSpPr/>
          <p:nvPr/>
        </p:nvSpPr>
        <p:spPr>
          <a:xfrm flipV="1">
            <a:off x="2484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22766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908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05928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4284720" y="189000"/>
            <a:ext cx="4572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,     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ая соединительная линия 11"/>
          <p:cNvSpPr/>
          <p:nvPr/>
        </p:nvSpPr>
        <p:spPr>
          <a:xfrm flipH="1">
            <a:off x="6084360" y="476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608472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ая соединительная линия 13"/>
          <p:cNvSpPr/>
          <p:nvPr/>
        </p:nvSpPr>
        <p:spPr>
          <a:xfrm flipH="1">
            <a:off x="5219280" y="83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ая соединительная линия 14"/>
          <p:cNvSpPr/>
          <p:nvPr/>
        </p:nvSpPr>
        <p:spPr>
          <a:xfrm flipH="1">
            <a:off x="5724000" y="83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Прямая соединительная линия 15"/>
          <p:cNvSpPr/>
          <p:nvPr/>
        </p:nvSpPr>
        <p:spPr>
          <a:xfrm>
            <a:off x="521964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572436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363528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1042920" y="2637000"/>
            <a:ext cx="810108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     A +      C = 2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а это больше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что противоречит условию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То есть решения здесь нет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увидеть несколько решений в одной задаче – это неоднозначная формулировка условия задачи, а дальше умение найти несколько решений и ситу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 flipH="1">
            <a:off x="118728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 flipH="1">
            <a:off x="183492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 flipH="1">
            <a:off x="313200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ая соединительная линия 23"/>
          <p:cNvSpPr/>
          <p:nvPr/>
        </p:nvSpPr>
        <p:spPr>
          <a:xfrm flipH="1">
            <a:off x="3924000" y="292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24"/>
          <p:cNvSpPr/>
          <p:nvPr/>
        </p:nvSpPr>
        <p:spPr>
          <a:xfrm flipH="1">
            <a:off x="4066920" y="3284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478764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рямая соединительная линия 26"/>
          <p:cNvSpPr/>
          <p:nvPr/>
        </p:nvSpPr>
        <p:spPr>
          <a:xfrm flipH="1">
            <a:off x="543528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118728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83528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3132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40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4788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059280" y="278136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2:26Z</dcterms:created>
  <dc:creator>1</dc:creator>
  <dc:description/>
  <dc:language>en-US</dc:language>
  <cp:lastModifiedBy>k308-1</cp:lastModifiedBy>
  <dcterms:modified xsi:type="dcterms:W3CDTF">2013-03-19T12:51:19Z</dcterms:modified>
  <cp:revision>20</cp:revision>
  <dc:subject/>
  <dc:title>Презентация на тему: «Способы решений задач и число решений задач»</dc:title>
</cp:coreProperties>
</file>